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8612FE-5E6B-4633-9625-2AC11A0B295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1A20-3548-4D9A-B78F-CAF40FF58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3A50-0E18-4A78-ABBE-9FF21DAA9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E5FE-320C-4D7C-914B-F115AF1E3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C075-B433-4DFA-AA4E-B16CF5A1B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2793-C85B-4BA3-8BFB-CB0BF1BB7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84F5-11D5-49DE-B553-C66987C4F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AAE0-8279-4FFD-9A58-A710856BA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C4E8-B6F0-4EEA-BD5C-83422B41A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FBD0-F232-4686-B7DB-AFF66B49F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518E-B472-46E5-9464-0204317D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3442-767B-457B-AF3D-56B5C5D7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FCBB-E219-4773-B23A-E861985F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E2455B-A411-471E-8CAA-36578E360251}" type="slidenum">
              <a:rPr b="0" lang="en-US" sz="1400" spc="-1" strike="noStrike">
                <a:solidFill>
                  <a:srgbClr val="0000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Jeopardy.wav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slide6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Jeopardy.wav" TargetMode="External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28600" y="1981080"/>
            <a:ext cx="8610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828800"/>
            <a:ext cx="7467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Rolling Friction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1752480"/>
            <a:ext cx="8381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152388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 type of fluid friction in air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1752480"/>
            <a:ext cx="8381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152388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ir resistance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838080" y="1066680"/>
            <a:ext cx="7391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14479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Changes sliding friction to fluid friction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838080" y="1066680"/>
            <a:ext cx="7391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14479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lubricant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14400" y="1905120"/>
            <a:ext cx="71913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057400"/>
            <a:ext cx="792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force of attraction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1905120"/>
            <a:ext cx="71913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20574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Gravity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1905120"/>
            <a:ext cx="769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Causes an increase in gravitational force. 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"/>
            <a:ext cx="769608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6600" spc="-1" strike="noStrike">
                <a:solidFill>
                  <a:srgbClr val="ff9933"/>
                </a:solidFill>
                <a:latin typeface="Times New Roman"/>
              </a:rPr>
              <a:t>What are the affects of an increase in the masses of two objects or a decease in the distance between them?</a:t>
            </a:r>
            <a:endParaRPr b="0" lang="en-US" sz="6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1981080"/>
            <a:ext cx="7925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 measure of the force of gravity on an object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838080" y="304920"/>
            <a:ext cx="6782040" cy="2666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Jeopard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200400"/>
            <a:ext cx="8382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Choose a category.  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You will be given the answer.  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You must give the correct question.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" name="">
            <a:hlinkClick r:id="rId1"/>
          </p:cNvPr>
          <p:cNvSpPr/>
          <p:nvPr/>
        </p:nvSpPr>
        <p:spPr>
          <a:xfrm>
            <a:off x="5867280" y="5334120"/>
            <a:ext cx="2743200" cy="1218960"/>
          </a:xfrm>
          <a:custGeom>
            <a:avLst/>
            <a:gdLst>
              <a:gd name="textAreaLeft" fmla="*/ 78840 w 2743200"/>
              <a:gd name="textAreaRight" fmla="*/ 2664360 w 27432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48602" h="21600">
                <a:moveTo>
                  <a:pt x="0" y="0"/>
                </a:moveTo>
                <a:lnTo>
                  <a:pt x="48602" y="0"/>
                </a:lnTo>
                <a:lnTo>
                  <a:pt x="48602" y="21600"/>
                </a:lnTo>
                <a:lnTo>
                  <a:pt x="0" y="21600"/>
                </a:lnTo>
                <a:close/>
              </a:path>
              <a:path fill="lightenLess" w="48602" h="21600">
                <a:moveTo>
                  <a:pt x="0" y="0"/>
                </a:moveTo>
                <a:lnTo>
                  <a:pt x="48602" y="0"/>
                </a:lnTo>
                <a:lnTo>
                  <a:pt x="47202" y="1400"/>
                </a:lnTo>
                <a:lnTo>
                  <a:pt x="1400" y="1400"/>
                </a:lnTo>
                <a:close/>
              </a:path>
              <a:path fill="darken" w="48602" h="21600">
                <a:moveTo>
                  <a:pt x="48602" y="0"/>
                </a:moveTo>
                <a:lnTo>
                  <a:pt x="48602" y="21600"/>
                </a:lnTo>
                <a:lnTo>
                  <a:pt x="47202" y="20200"/>
                </a:lnTo>
                <a:lnTo>
                  <a:pt x="47202" y="1400"/>
                </a:lnTo>
                <a:close/>
              </a:path>
              <a:path fill="darkenLess" w="48602" h="21600">
                <a:moveTo>
                  <a:pt x="48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2" y="20200"/>
                </a:lnTo>
                <a:close/>
              </a:path>
              <a:path fill="lighten" w="48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</a:rPr>
              <a:t>Click to begin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198108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weight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16002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9.8 m/s/s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16002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the acceleration due to gravity on Earth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1905120"/>
            <a:ext cx="807696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Mass X acceleration due to gravity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(m x g)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1905120"/>
            <a:ext cx="807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the formula for calculating weight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175248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 push or a pull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175248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force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13716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wo forces that are equal and opposite in direction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137160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unbalanced forces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1447920"/>
            <a:ext cx="7925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wo forces that cancel each other out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0"/>
            <a:ext cx="5715000" cy="2362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Choose a point value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523880" y="1981080"/>
            <a:ext cx="5715000" cy="2362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Choose a point value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" name="">
            <a:hlinkClick r:id="rId5" action="ppaction://hlinksldjump"/>
          </p:cNvPr>
          <p:cNvSpPr/>
          <p:nvPr/>
        </p:nvSpPr>
        <p:spPr>
          <a:xfrm>
            <a:off x="5562720" y="4724280"/>
            <a:ext cx="2971800" cy="1752840"/>
          </a:xfrm>
          <a:custGeom>
            <a:avLst/>
            <a:gdLst>
              <a:gd name="textAreaLeft" fmla="*/ 113400 w 2971800"/>
              <a:gd name="textAreaRight" fmla="*/ 2858400 w 2971800"/>
              <a:gd name="textAreaTop" fmla="*/ 113400 h 1752840"/>
              <a:gd name="textAreaBottom" fmla="*/ 1639440 h 1752840"/>
            </a:gdLst>
            <a:ahLst/>
            <a:rect l="textAreaLeft" t="textAreaTop" r="textAreaRight" b="textAreaBottom"/>
            <a:pathLst>
              <a:path w="36618" h="21600">
                <a:moveTo>
                  <a:pt x="0" y="0"/>
                </a:moveTo>
                <a:lnTo>
                  <a:pt x="36618" y="0"/>
                </a:lnTo>
                <a:lnTo>
                  <a:pt x="36618" y="21600"/>
                </a:lnTo>
                <a:lnTo>
                  <a:pt x="0" y="21600"/>
                </a:lnTo>
                <a:close/>
              </a:path>
              <a:path fill="lightenLess" w="36618" h="21600">
                <a:moveTo>
                  <a:pt x="0" y="0"/>
                </a:moveTo>
                <a:lnTo>
                  <a:pt x="36618" y="0"/>
                </a:lnTo>
                <a:lnTo>
                  <a:pt x="35218" y="1400"/>
                </a:lnTo>
                <a:lnTo>
                  <a:pt x="1400" y="1400"/>
                </a:lnTo>
                <a:close/>
              </a:path>
              <a:path fill="darken" w="36618" h="21600">
                <a:moveTo>
                  <a:pt x="36618" y="0"/>
                </a:moveTo>
                <a:lnTo>
                  <a:pt x="36618" y="21600"/>
                </a:lnTo>
                <a:lnTo>
                  <a:pt x="35218" y="20200"/>
                </a:lnTo>
                <a:lnTo>
                  <a:pt x="35218" y="1400"/>
                </a:lnTo>
                <a:close/>
              </a:path>
              <a:path fill="darkenLess" w="36618" h="21600">
                <a:moveTo>
                  <a:pt x="36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218" y="20200"/>
                </a:lnTo>
                <a:close/>
              </a:path>
              <a:path fill="lighten" w="36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91320" y="51055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</a:rPr>
              <a:t>Click here for Final Jeopardy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1447920"/>
            <a:ext cx="792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balanced forces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175248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unit for forces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175248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Newton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752480"/>
            <a:ext cx="807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Used to symbolize forces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175248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vector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14479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n object accelerating due to gravity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14479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free fall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91440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Causes objects to not fall at the same rate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160020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ir resistance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2120" y="1295280"/>
            <a:ext cx="7619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Shape can be changed to minimize air resistance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>
            <a:hlinkClick r:id="rId1" action="ppaction://hlinksldjump"/>
          </p:cNvPr>
          <p:cNvSpPr/>
          <p:nvPr/>
        </p:nvSpPr>
        <p:spPr>
          <a:xfrm>
            <a:off x="0" y="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Friction</a:t>
            </a:r>
            <a:endParaRPr b="0" lang="en-US" sz="2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" name="">
            <a:hlinkClick r:id="rId2" action="ppaction://hlinksldjump"/>
          </p:cNvPr>
          <p:cNvSpPr/>
          <p:nvPr/>
        </p:nvSpPr>
        <p:spPr>
          <a:xfrm>
            <a:off x="1523880" y="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Gravity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" name="">
            <a:hlinkClick r:id="rId3" action="ppaction://hlinksldjump"/>
          </p:cNvPr>
          <p:cNvSpPr/>
          <p:nvPr/>
        </p:nvSpPr>
        <p:spPr>
          <a:xfrm>
            <a:off x="4572000" y="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Free Fall</a:t>
            </a:r>
            <a:endParaRPr b="0" lang="en-US" sz="2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" name="">
            <a:hlinkClick r:id="rId4" action="ppaction://hlinksldjump"/>
          </p:cNvPr>
          <p:cNvSpPr/>
          <p:nvPr/>
        </p:nvSpPr>
        <p:spPr>
          <a:xfrm>
            <a:off x="6095880" y="0"/>
            <a:ext cx="1524240" cy="1371600"/>
          </a:xfrm>
          <a:custGeom>
            <a:avLst/>
            <a:gdLst>
              <a:gd name="textAreaLeft" fmla="*/ 88560 w 1524240"/>
              <a:gd name="textAreaRight" fmla="*/ 1435680 w 152424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Newton's </a:t>
            </a:r>
            <a:endParaRPr b="0" lang="en-US" sz="2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Laws</a:t>
            </a:r>
            <a:endParaRPr b="0" lang="en-US" sz="2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" name="">
            <a:hlinkClick r:id="rId5" action="ppaction://hlinksldjump"/>
          </p:cNvPr>
          <p:cNvSpPr/>
          <p:nvPr/>
        </p:nvSpPr>
        <p:spPr>
          <a:xfrm>
            <a:off x="7620120" y="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Lab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143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2286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429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4572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5715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23880" y="1143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8120" y="1143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1143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5880" y="1143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0120" y="1143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2286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8120" y="2286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0" y="2286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5880" y="2286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0120" y="2286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23880" y="3429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3880" y="4572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23880" y="5715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3429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0" y="3429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5880" y="3429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0120" y="3429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4572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0" y="4572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5880" y="4572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0120" y="4572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5715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715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5880" y="5715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0120" y="5715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1" name="">
            <a:hlinkClick r:id="rId6" action="ppaction://hlinksldjump"/>
          </p:cNvPr>
          <p:cNvSpPr/>
          <p:nvPr/>
        </p:nvSpPr>
        <p:spPr>
          <a:xfrm>
            <a:off x="3048120" y="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300" spc="-1" strike="noStrike">
                <a:solidFill>
                  <a:srgbClr val="ff9933"/>
                </a:solidFill>
                <a:latin typeface="Times New Roman"/>
              </a:rPr>
              <a:t>Forces</a:t>
            </a:r>
            <a:endParaRPr b="0" lang="en-US" sz="23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129528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erodynamic design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1447920"/>
            <a:ext cx="8153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orized that objects of different weights will fall at the same speed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3520" y="14479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o is Galileo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16002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Determines the amount of air resistance on an object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6002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do the cross-sectional area and the speed of an object determine? 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453960"/>
            <a:ext cx="77724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6600" spc="-1" strike="noStrike">
                <a:solidFill>
                  <a:srgbClr val="ff9933"/>
                </a:solidFill>
                <a:latin typeface="Times New Roman"/>
              </a:rPr>
              <a:t>An object at rest remains at rest and an object in motion remains in motion, unless acted upon by an outside force.</a:t>
            </a:r>
            <a:endParaRPr b="0" lang="en-US" sz="6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1447920"/>
            <a:ext cx="7772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Newton's First Law of Motion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3520" y="1371600"/>
            <a:ext cx="807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n objects tendency to remain at rest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3520" y="137160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Inertia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5800" y="160020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Increases as force is increased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041560" y="112860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2133720"/>
            <a:ext cx="75438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2286000"/>
            <a:ext cx="75438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6000" spc="-1" strike="noStrike">
                <a:solidFill>
                  <a:srgbClr val="ff6633"/>
                </a:solidFill>
                <a:latin typeface="Times New Roman"/>
              </a:rPr>
              <a:t>The force that opposes motion.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" y="160020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speed (or acceleration)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137160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For every action, there is an equal and opposite reaction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137160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Newton's Third law of motion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1447920"/>
            <a:ext cx="7772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Law of motion that allows birds to fly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1447920"/>
            <a:ext cx="7772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Newton's Third law of motion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129528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is lab showed that speed increases as mass decreases. 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9480" y="1295280"/>
            <a:ext cx="792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the Balloon Powered Car lab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2120" y="1752480"/>
            <a:ext cx="754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In the Shipping and Sliding Lab, this increased with a coarse texture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2120" y="17524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Friction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1447920"/>
            <a:ext cx="7772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One concept we examined in the Shipping and Sliding Lab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41560" y="112860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21337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Friction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1447920"/>
            <a:ext cx="7772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ncreases frictional force and sliding friction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>
            <a:hlinkClick r:id="" action="ppaction://hlinkshowjump?jump=nextslide"/>
          </p:cNvPr>
          <p:cNvSpPr/>
          <p:nvPr/>
        </p:nvSpPr>
        <p:spPr>
          <a:xfrm>
            <a:off x="0" y="-22860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457200"/>
            <a:ext cx="7619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is helped to increase speed in both the Balloon car lab and the Free Fall Lab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62120" y="14479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erodynamic design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09480" y="1828800"/>
            <a:ext cx="8077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Concept we learned in the “Would a Gorilla fall faster than a Banana” lab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1828800"/>
            <a:ext cx="8077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the concept, mass does not affect the falling rate of an object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>
            <a:hlinkClick r:id="rId1"/>
          </p:cNvPr>
          <p:cNvSpPr/>
          <p:nvPr/>
        </p:nvSpPr>
        <p:spPr>
          <a:xfrm>
            <a:off x="685800" y="685800"/>
            <a:ext cx="8001000" cy="5486400"/>
          </a:xfrm>
          <a:custGeom>
            <a:avLst/>
            <a:gdLst>
              <a:gd name="textAreaLeft" fmla="*/ 355320 w 8001000"/>
              <a:gd name="textAreaRight" fmla="*/ 7645680 w 8001000"/>
              <a:gd name="textAreaTop" fmla="*/ 355320 h 5486400"/>
              <a:gd name="textAreaBottom" fmla="*/ 5131080 h 5486400"/>
            </a:gdLst>
            <a:ahLst/>
            <a:rect l="textAreaLeft" t="textAreaTop" r="textAreaRight" b="textAreaBottom"/>
            <a:pathLst>
              <a:path w="31499" h="21600">
                <a:moveTo>
                  <a:pt x="0" y="0"/>
                </a:moveTo>
                <a:lnTo>
                  <a:pt x="31499" y="0"/>
                </a:lnTo>
                <a:lnTo>
                  <a:pt x="31499" y="21600"/>
                </a:lnTo>
                <a:lnTo>
                  <a:pt x="0" y="21600"/>
                </a:lnTo>
                <a:close/>
              </a:path>
              <a:path fill="lightenLess" w="31499" h="21600">
                <a:moveTo>
                  <a:pt x="0" y="0"/>
                </a:moveTo>
                <a:lnTo>
                  <a:pt x="31499" y="0"/>
                </a:lnTo>
                <a:lnTo>
                  <a:pt x="30099" y="1400"/>
                </a:lnTo>
                <a:lnTo>
                  <a:pt x="1400" y="1400"/>
                </a:lnTo>
                <a:close/>
              </a:path>
              <a:path fill="darken" w="31499" h="21600">
                <a:moveTo>
                  <a:pt x="31499" y="0"/>
                </a:moveTo>
                <a:lnTo>
                  <a:pt x="31499" y="21600"/>
                </a:lnTo>
                <a:lnTo>
                  <a:pt x="30099" y="20200"/>
                </a:lnTo>
                <a:lnTo>
                  <a:pt x="30099" y="1400"/>
                </a:lnTo>
                <a:close/>
              </a:path>
              <a:path fill="darkenLess" w="31499" h="21600">
                <a:moveTo>
                  <a:pt x="314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99" y="20200"/>
                </a:lnTo>
                <a:close/>
              </a:path>
              <a:path fill="lighten" w="314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066680" y="1752480"/>
            <a:ext cx="6858000" cy="3048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inal Jeopard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27" name=""/>
          <p:cNvSpPr/>
          <p:nvPr/>
        </p:nvSpPr>
        <p:spPr>
          <a:xfrm>
            <a:off x="4191120" y="5105520"/>
            <a:ext cx="3886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Make your wager</a:t>
            </a:r>
            <a:endParaRPr b="0" lang="en-US" sz="3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1371600"/>
            <a:ext cx="784872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I would do this to decrease sliding friction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685800"/>
            <a:ext cx="7848720" cy="72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Wheels? 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Or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Lubricant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2438280"/>
            <a:ext cx="8076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1600200"/>
            <a:ext cx="7467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Friction between two solid objects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2438280"/>
            <a:ext cx="8076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1600200"/>
            <a:ext cx="7467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sliding friction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28600" y="1981080"/>
            <a:ext cx="8610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1828800"/>
            <a:ext cx="7467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 friction that includes ball bearings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8T16:42:31Z</dcterms:created>
  <dc:creator>Valued Customer</dc:creator>
  <dc:description/>
  <dc:language>en-US</dc:language>
  <cp:lastModifiedBy>Kim Overstreet</cp:lastModifiedBy>
  <dcterms:modified xsi:type="dcterms:W3CDTF">2004-04-26T15:23:14Z</dcterms:modified>
  <cp:revision>20</cp:revision>
  <dc:subject/>
  <dc:title>No Slide Title</dc:title>
</cp:coreProperties>
</file>